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wmf" ContentType="image/x-wmf"/>
  <Override PartName="/ppt/media/image8.png" ContentType="image/png"/>
  <Override PartName="/ppt/media/image10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776-2743-46D2-9220-87BF49B9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AFD-84F1-480D-909D-AC3E4948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88A94-A7A3-40CF-8AA6-7417FBF0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A17A6-F04A-4D11-8D02-18837B94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28B0B-F8BF-4C28-9E48-88E73399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61C98-FB48-47B1-9ED7-2BFB27C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DF05D-7A26-44B4-B063-323F6DB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E21FA-CC49-4B5E-9B51-D394D1D2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52667-CF29-44F5-8C88-B4A97E22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03835-10FD-428B-8FAA-075ED0A1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C84F5-9D0A-463B-8C4C-9A686EB8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0D226-FB86-4758-AA8A-A7905966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673-4ADD-43A4-B575-A7EBE6A9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219E4-F383-49C5-8CA8-E928D9E8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605E5-DA9B-42B6-AD12-77E25DE9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AE6FF-E3BC-4DA8-8FD3-C74748A5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C92EB-B61F-4D34-849C-83F3424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B6DCA-BF3F-46FC-8F2C-338BC78E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6FB1C-093D-48D4-A05B-AB1094F1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15265-D340-4A6C-AEBB-26F83BC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5D224-F015-4DB8-AFEB-D93BBD55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349CA-7FBA-4195-93C9-A259140C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3C2CF-BF84-4169-B082-6B53F276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ABE-AEF3-4533-9DA1-9AFA7BF2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9A1C6-EB53-49D6-89DD-9BBC701F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5F5C7-F370-4A70-BE9A-863C73CE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B4766-83D5-42EF-B212-B75DD7E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D82D-A8E0-4B19-BA89-3A8A3477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6A4F1-CAEC-4E9B-A84B-B04DCE9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F0CBE-781E-4467-A5BF-0C3F6A7B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37ED2-71FE-46EA-828C-AA7F83E0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CBFA9-4996-4CFB-A4D1-80D8F103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56E89-03C2-4A73-85BB-A9DB5D2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1F620-5DC8-4C58-BEE7-D3E1E46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A2D0-CEE0-43E0-96FF-1CD381CB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C16AA-9247-4C81-B884-5C535E17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5A348-FEDF-47E0-832E-02844A90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B5D69-E1F7-4B06-B903-36BEB1F7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286D1-F8F5-4091-8350-D7012707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28118-DBFC-4BAE-8752-D646CA8D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D393F-5E42-4B07-966B-7F3832CF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702D8-4183-4C21-AF2C-D4C1CCCB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FC2C3-A7BF-4ADB-8B32-1E3ACA6E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7173C-A5EF-4230-9B2B-4673E86A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062D8-111A-4E3C-926E-340DB99F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2495-9ECA-4E14-A410-BE106AF4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FCC39-4D83-4424-8F74-2C2EDD6A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1F5A3-B91D-41F5-9B79-7F49E26E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ED149-6DF6-4E52-8CFA-0A13EB48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84A7A-A185-4D09-90BF-91C67623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1B6E0-CF49-41F4-9F41-798863C5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C647D-D7E7-423A-8E61-5A2B4C00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463BC-9357-4A48-AC2B-E82B3FB7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39313-E1FA-4F1A-A4AF-8682D906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F1F9F-09B4-4281-9C44-FABA7A67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8731D-6AB2-4261-8CCB-8526A8A4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46B6-371C-49FE-AB3D-D521354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0874E-7D95-4BBC-B3B5-55F87A8D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990ED-156D-4FEA-AA00-D66BF23D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D0D7D-043A-4483-8FC6-CEE91F5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F4DFD-C9FE-424A-8B8F-588F9671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74799-C18C-4302-BED3-70BD55B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74383-BD14-4BFD-99E3-7D7B1476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9BD5F-D835-4505-9000-0068B4B5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D649-1B4F-4B84-AD59-47E852A8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9352-C1DF-4B8F-B210-8750BB63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4FD0-5052-4015-8FBF-B191575E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8E75-82D1-4B76-9514-0C452771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236-AC4A-4C40-8F4E-0253A586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B0DD-547B-4779-AB43-33CE98EB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6829-548D-4F02-A4DB-BF91802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CCE7-A331-4335-83F7-93F2D88B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D8D4-0446-49D7-A29F-082C4708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D188-A2A2-4011-97AB-7E93F1E6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E1DF-FAF8-434C-83E0-0A6114A4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CD76-3532-4169-A8C6-228B3E79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49F1-C7A6-4C93-B7EB-934C1C39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80ED-9247-4E99-BB3D-01049DCC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09E6-076F-4221-B6E0-A86E8E68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501-0A37-449D-87D2-E1752AB1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F186-1661-4708-9078-C03B09E6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E497-DAF8-4463-844F-85EA8547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BFEE-458C-49FE-BAD4-E8796702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6294-0B43-4209-B11F-DF568F78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65ED-33B1-42D6-BBB3-93D3CA73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690B-DC0A-4D18-B36B-359F8678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A881-7572-4A3A-AD9B-591B90FF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DEA7-0A00-4BCC-A7EA-84963428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CE60-1382-4074-99B1-165B48CE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EE38D-0BB4-4900-81B9-48C52686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0BB-EE52-46EF-A20F-391120A8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A752-7202-4C1C-9C91-7ED9D29C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C61E-98E0-4E9D-9F2D-ECF89BFD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908B-F426-40F8-A625-2C095494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68F60-3190-44D9-B985-69833580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2C56-8EEE-4A75-B4B1-6B7E5B6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638F-BD94-4A1F-A1AF-1AE3CF60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3716-DEAF-4F75-8CFC-B26AF38D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CBCA-0C5F-4BB2-91F7-B5C4FE74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35BC-1B25-47F7-925E-9941FB22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E4ABA-5FA5-48DA-840E-D73425EF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77A-AFE3-4691-B634-E8DE0584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E1EA-6C57-42CA-90D7-4D0B0D93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506A-E3A8-4A3F-A03E-8C4D8A92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24C91-B886-4A07-9B22-53285F78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FB713-4060-468A-8B9A-6F759838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32281-1C97-4051-ABC5-B82F8219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8CF95-ECC7-46E6-9A92-8C9088E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55865-F593-4E62-9BCC-682722E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28196-250D-4935-83AF-790ECB4E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4946-F230-48EC-B43E-8CD7F25D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614A5-F9FB-4EF6-9928-A92F26C1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916-927C-48E4-8E52-423E97CB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A459-6E86-481E-B905-8B1A568C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ED261-6205-42C6-AFEF-8FC4400E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9442-5825-4610-9FB1-8321D53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83C46-6B05-4951-90D3-2B611714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8596-621C-4C51-A411-08ED7252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F79A1-F732-4C7D-8D63-E6A83B9B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A4EF1-5BD8-4A33-AD11-09FE80FE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5FD2-DF0D-4B75-9D70-B6A5BE4C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F8FB5-C978-4958-AC82-F22DA9D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8D33-EC9D-40E7-BB98-779CF7D5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067-E067-4EC5-9EC7-AFE80803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45C1-E88C-46D2-A09B-9B61B13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D1A3-479A-44C8-A9CE-A3EB3B4E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627FB-39AB-4686-9544-004ADAC0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4240-BA53-4901-8E40-48428E0D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6B876-7384-444F-B519-EB187E24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58D9D-218B-4864-B972-75269A4B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09148-0C1E-4B51-8F37-5376D2C4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0B057-97EE-4B4D-8AF6-374B04EB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E9FB-BA8C-4274-90E6-44B70760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1117C-FD1B-42F4-A144-FF7A71C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CD8-23AE-44C4-8CFD-A74DA04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423D-7635-4BEA-B6CF-9CF85F8E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8C394-A60B-4853-A02C-6AD18C97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CEF01-4644-4982-89B7-A3422DF0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5D168-4599-4FAB-85DE-F2842FFF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6413C-BAAC-4385-A6B9-28DC242B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3AC2-AD92-46B6-B576-983177A3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2F95F-2DFD-41D8-9EA7-A6A64E1E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7879-1709-49DE-8680-028DE1A6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61787-B13F-4E0D-8C5C-94E231E3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5B72A-C5D8-4A5E-93CA-83BEA01E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BFB-CAD0-4235-9D92-4B09A45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FC282-94FF-4280-B642-E4412B6F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C5334-C1E7-4AD3-AD70-DC82482F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02DFE-1F6C-4602-AC1A-BC73B867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82862-A5C6-4D4C-90DA-AAF7A5AC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EB448-7B6D-41F3-B97A-AF7CDC18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AEC8E-A840-438D-B713-8C213C97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8D29B-50D1-48FC-8976-33863A34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9F58B-843D-490A-BF97-5B2F87E7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DEC47-32D4-4DB5-AAAD-5D24F554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5AA1D-9E85-4B12-A486-3A04DD90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9B95-51E6-4178-B9EB-92CEC2D0E7D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5A6C-9EB7-4D17-89F7-FC10EF79FBE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249E-FB6C-4362-A2EA-DC2EEE9787B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D584-BB99-409C-B7E6-BD4BC5F66FC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78B7-BB80-4803-94B7-686FF592974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4D3A-A143-4A50-834C-967965143AE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A99E-909E-4727-9884-4AD0E7A271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22C4-12EF-4368-A2C0-50F6598AA00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C9E4-15C8-4BA5-9204-4709BBF0941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EB7A-3890-4A46-8FC6-C244EE4F524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7070-EABD-441E-B271-F16917E2E73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F388-F566-4921-AF01-72388DBB873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4B32-FE5E-4128-81BB-09206CC657A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4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gif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2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2.png"/><Relationship Id="rId4" Type="http://schemas.openxmlformats.org/officeDocument/2006/relationships/image" Target="../media/image6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jenos top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7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zračenje top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će se ploha zagrijati jače, crna ili bije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3" descr="SnapShot(610).jpg"/>
          <p:cNvPicPr/>
          <p:nvPr/>
        </p:nvPicPr>
        <p:blipFill>
          <a:blip r:embed="rId4"/>
          <a:srcRect l="14370" t="11549" r="27165" b="8049"/>
          <a:stretch/>
        </p:blipFill>
        <p:spPr>
          <a:xfrm>
            <a:off x="4284720" y="1700280"/>
            <a:ext cx="4597200" cy="3557520"/>
          </a:xfrm>
          <a:prstGeom prst="rect">
            <a:avLst/>
          </a:prstGeom>
          <a:ln w="0">
            <a:noFill/>
          </a:ln>
        </p:spPr>
      </p:pic>
      <p:pic>
        <p:nvPicPr>
          <p:cNvPr id="573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79280" y="347760"/>
            <a:ext cx="835344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ašto je zimi ugodnije nositi tamniju odjeću, a ljeti svjetlij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žete li objasniti zašto su vedre noći hlad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Na koji se način grijemo kada sjedimo ispred vatr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ko toplina prelazi s vruće vode u radijatoru na zrak oko njeg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6" name="Slika 1" descr=""/>
          <p:cNvPicPr/>
          <p:nvPr/>
        </p:nvPicPr>
        <p:blipFill>
          <a:blip r:embed="rId4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Calibri"/>
              </a:rPr>
              <a:t>1. Prijelaz topline vođenje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vi-VN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zagrijavamo bakrenu ži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te prije odbaciti iz ruke, žicu ili žigic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Prijelaz topline kroz tvar, bez gibanja tvari, nazivamo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vođenje top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1" name="Slika 1" descr=""/>
          <p:cNvPicPr/>
          <p:nvPr/>
        </p:nvPicPr>
        <p:blipFill>
          <a:blip r:embed="rId8"/>
          <a:stretch/>
        </p:blipFill>
        <p:spPr>
          <a:xfrm>
            <a:off x="6804000" y="907920"/>
            <a:ext cx="19796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obri i loši vodiči top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989000"/>
            <a:ext cx="4186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Calibri"/>
              </a:rPr>
              <a:t>Pokus: epuveta s vodo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Calibri"/>
              </a:rPr>
              <a:t>Kako se ponaša voda u epruveti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SzPct val="1028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000000"/>
                </a:solidFill>
                <a:latin typeface="Calibri"/>
              </a:rPr>
              <a:t>Kako to objašnjavate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SnapShot(609).jpg"/>
          <p:cNvPicPr/>
          <p:nvPr/>
        </p:nvPicPr>
        <p:blipFill>
          <a:blip r:embed="rId7"/>
          <a:stretch/>
        </p:blipFill>
        <p:spPr>
          <a:xfrm>
            <a:off x="5267160" y="1620720"/>
            <a:ext cx="2602080" cy="4604040"/>
          </a:xfrm>
          <a:prstGeom prst="rect">
            <a:avLst/>
          </a:prstGeom>
          <a:ln w="0">
            <a:noFill/>
          </a:ln>
        </p:spPr>
      </p:pic>
      <p:pic>
        <p:nvPicPr>
          <p:cNvPr id="555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da je loš vodič topline kao i sve tekuć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Loše vodiče topline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oplinski izolator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vine su najbolj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odiči top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bri se vodiči topline brzo zagriju i ohlade, a toplinski izolatori spo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Kako se prenosi toplina duž toplinskog vodič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ji je metal bolji vodič topline, aluminij ili bak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oji je metal bolji vodi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im će se redom taliti vosa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kojoj će žici vosak prije otpas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250560" y="11653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dijelu žice iznad plamena brzo se povećava temperatur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0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tom dijelu čestice žice titraju sve brž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0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tranje se prenosi na susjedne čestice u dijelove žice koje ne grije svijeć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0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d metala toplinu prenose i vodljivi elektroni. Zato je bolji električni vodič ujedno i bolji vodič top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0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ovome pokusu to je bak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rijelaz topline strujanje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2060280"/>
            <a:ext cx="8002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U veću staklenu posudu s vodom kapnite kap boje za kolače, nagnite je i bočno zagrijavajte plamenik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Kako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iste opisali to što se događ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da se iznad plamenika grije i širi pa se smanjuje njezina gustoća. Zagrijana voda struji prema površini, a hladnija je gušća i pada prema dnu. Tako se strujanjem vode toplina prenosi u krug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tekućinama i plinovima toplina se prenos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rujanj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87440" y="47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3. Prijelaz topline zračenj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a zagrijana tijela zrače toplinu. To je tzv.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fracrveno zračenj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Što tijelo ima veću temperaturu, energija zračenja je već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plina s grijača prelazi na nas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račenj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amna i hrapava tijela jače upijaju Sunčevo zračenje, nego svijetla i glatka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9:32:20Z</dcterms:created>
  <dc:creator>Mladen Vidović</dc:creator>
  <dc:description/>
  <dc:language>en-US</dc:language>
  <cp:lastModifiedBy>MArina Dumančić</cp:lastModifiedBy>
  <dcterms:modified xsi:type="dcterms:W3CDTF">2019-09-13T18:54:46Z</dcterms:modified>
  <cp:revision>16</cp:revision>
  <dc:subject/>
  <dc:title>Prijelaz topline</dc:title>
</cp:coreProperties>
</file>